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A6EB-6336-4FC2-A249-72477AEBE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2D3B-4CCA-48D6-9BE3-57955A42B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068E-420F-4080-9127-48AEA6641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F68C-2FA0-4222-9195-F0058E9F6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3049-17B5-445A-9557-290E92CB7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8B01-5F44-4ADB-AB4D-8CEFB828D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A750-35D5-4A8C-B817-A38D267B1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3950-B656-4146-B513-B0EF23D33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9B05-4E18-4653-B4FA-02FFE7181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3781-0A8F-49AE-8D17-96D2E6420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9131-C624-4EDD-AD00-C7721D356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E31C-A476-4D35-A884-2390877B4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4C712-054A-4FDC-8C86-AE6B5B8CCE76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ff"/>
                </a:solidFill>
                <a:latin typeface="Arial"/>
              </a:rPr>
              <a:t>What the world eats.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11280" y="2492280"/>
            <a:ext cx="8208720" cy="41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 american photographer, Peter Menzel, travelled around the world in 2005 and took photos of what 30 different families in different countries typically ea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 a normal wee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Food Nutrition Eating Health Diet &lt;span style='font-weight: bold'&gt;&lt;/span&gt;"/>
          <p:cNvPicPr/>
          <p:nvPr/>
        </p:nvPicPr>
        <p:blipFill>
          <a:blip r:embed="rId1"/>
          <a:stretch/>
        </p:blipFill>
        <p:spPr>
          <a:xfrm>
            <a:off x="324000" y="333360"/>
            <a:ext cx="856908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Food Nutrition Eating Health Diet &lt;span style='font-weight: bold'&gt;&lt;/span&gt;&lt;span style='font-weight: bold'&gt;&lt;/span&gt;"/>
          <p:cNvPicPr/>
          <p:nvPr/>
        </p:nvPicPr>
        <p:blipFill>
          <a:blip r:embed="rId1"/>
          <a:stretch/>
        </p:blipFill>
        <p:spPr>
          <a:xfrm>
            <a:off x="250920" y="33336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Food Nutrition Eating Health Diet &lt;span style='font-weight: bold'&gt;&lt;/span&gt;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Food Nutrition Eating Health Diet &lt;span style='font-weight: bold'&gt;&lt;/span&gt;"/>
          <p:cNvPicPr/>
          <p:nvPr/>
        </p:nvPicPr>
        <p:blipFill>
          <a:blip r:embed="rId1"/>
          <a:stretch/>
        </p:blipFill>
        <p:spPr>
          <a:xfrm>
            <a:off x="395280" y="404640"/>
            <a:ext cx="842472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Food Nutrition Eating Health Diet &lt;span style='font-weight: bold'&gt;&lt;/span&gt;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Food Nutrition Eating Health Diet &lt;span style='font-weight: bold'&gt;&lt;/span&gt;"/>
          <p:cNvPicPr/>
          <p:nvPr/>
        </p:nvPicPr>
        <p:blipFill>
          <a:blip r:embed="rId1"/>
          <a:stretch/>
        </p:blipFill>
        <p:spPr>
          <a:xfrm>
            <a:off x="395280" y="404640"/>
            <a:ext cx="842472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Food Nutrition Eating Health Diet &lt;span style='font-weight: bold'&gt;&lt;/span&gt;"/>
          <p:cNvPicPr/>
          <p:nvPr/>
        </p:nvPicPr>
        <p:blipFill>
          <a:blip r:embed="rId1"/>
          <a:stretch/>
        </p:blipFill>
        <p:spPr>
          <a:xfrm>
            <a:off x="395280" y="404640"/>
            <a:ext cx="849780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Food Nutrition Eating Health Diet &lt;span style='font-weight: bold'&gt;&lt;/span&gt;"/>
          <p:cNvPicPr/>
          <p:nvPr/>
        </p:nvPicPr>
        <p:blipFill>
          <a:blip r:embed="rId1"/>
          <a:stretch/>
        </p:blipFill>
        <p:spPr>
          <a:xfrm>
            <a:off x="324000" y="333360"/>
            <a:ext cx="856908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Food Nutrition Eating Health Diet &lt;span style='font-weight: bold'&gt;&lt;/span&gt;"/>
          <p:cNvPicPr/>
          <p:nvPr/>
        </p:nvPicPr>
        <p:blipFill>
          <a:blip r:embed="rId1"/>
          <a:stretch/>
        </p:blipFill>
        <p:spPr>
          <a:xfrm>
            <a:off x="468360" y="404640"/>
            <a:ext cx="84247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he answers…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4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Italy           £16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Mexico       £1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Mongolia    £2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China         £9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Germany   £31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. Ecuador     £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. Kuwait       £1.4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59280" y="1628640"/>
            <a:ext cx="4043520" cy="54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. Bhutan      £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9. England     £15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. Egypt          £4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1. USA           £21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2. Chad          63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3. Japan         £2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4. Poland        £9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Product Details"/>
          <p:cNvPicPr/>
          <p:nvPr/>
        </p:nvPicPr>
        <p:blipFill>
          <a:blip r:embed="rId1"/>
          <a:stretch/>
        </p:blipFill>
        <p:spPr>
          <a:xfrm>
            <a:off x="468360" y="333360"/>
            <a:ext cx="4548240" cy="6264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003640" y="620640"/>
            <a:ext cx="4392720" cy="81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Unicode MS"/>
              </a:rPr>
              <a:t>His photos are published in ‘The Hungry Planet’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ffff"/>
                </a:solidFill>
                <a:latin typeface="Arial"/>
              </a:rPr>
              <a:t>Les pays dans les imag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Unicode MS"/>
              </a:rPr>
              <a:t>États-Un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Unicode MS"/>
              </a:rPr>
              <a:t>Mexiqu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Unicode MS"/>
              </a:rPr>
              <a:t>Équateu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Unicode MS"/>
              </a:rPr>
              <a:t>Angleter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Unicode MS"/>
              </a:rPr>
              <a:t>Polog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Unicode MS"/>
              </a:rPr>
              <a:t>Allemag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Unicode MS"/>
              </a:rPr>
              <a:t>Itali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Jap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Ch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Mongoli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Bouta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Koweï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Égyp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Tcha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684360" y="404640"/>
          <a:ext cx="8135280" cy="6192720"/>
        </p:xfrm>
        <a:graphic>
          <a:graphicData uri="http://schemas.openxmlformats.org/drawingml/2006/table">
            <a:tbl>
              <a:tblPr/>
              <a:tblGrid>
                <a:gridCol w="2711880"/>
                <a:gridCol w="2711520"/>
                <a:gridCol w="2711880"/>
              </a:tblGrid>
              <a:tr h="12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3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3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3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3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Food Nutrition Eating Health Diet &lt;span style='font-weight: bold'&gt;&lt;/span&gt;"/>
          <p:cNvPicPr/>
          <p:nvPr/>
        </p:nvPicPr>
        <p:blipFill>
          <a:blip r:embed="rId1"/>
          <a:stretch/>
        </p:blipFill>
        <p:spPr>
          <a:xfrm>
            <a:off x="250920" y="404640"/>
            <a:ext cx="856908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Food Nutrition Eating Health Diet &lt;span style='font-weight: bold'&gt;&lt;/span&gt;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Food Nutrition Eating Health Diet &lt;span style='font-weight: bold'&gt;&lt;/span&gt;"/>
          <p:cNvPicPr/>
          <p:nvPr/>
        </p:nvPicPr>
        <p:blipFill>
          <a:blip r:embed="rId1"/>
          <a:stretch/>
        </p:blipFill>
        <p:spPr>
          <a:xfrm>
            <a:off x="395280" y="404640"/>
            <a:ext cx="842472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Food Nutrition Eating Health Diet &lt;span style='font-weight: bold'&gt;&lt;/span&gt;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Food Nutrition Eating Health Diet &lt;span style='font-weight: bold'&gt;&lt;/span&gt;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19:15:32Z</dcterms:created>
  <dc:creator>student</dc:creator>
  <dc:description/>
  <dc:language>en-US</dc:language>
  <cp:lastModifiedBy>student</cp:lastModifiedBy>
  <dcterms:modified xsi:type="dcterms:W3CDTF">2012-03-13T11:00:48Z</dcterms:modified>
  <cp:revision>30</cp:revision>
  <dc:subject/>
  <dc:title>What the world eats. </dc:title>
</cp:coreProperties>
</file>